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AFA8-181F-4111-ADA1-C78C5FB6F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9D32-5888-4418-BC07-FEC09527E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A83-334F-4955-AEDC-75FEC6CA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2BF-FEB3-4828-A184-54ACF128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CBE-E7B3-4BE0-A42E-1731B72F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AEB-A4C6-4BB7-969B-87454D7E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EE6-A629-40F6-BBC8-9E57BAC1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0B4-65D1-4D69-872B-09D8764D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8D2-9D04-4E21-8316-A0EDA31E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813-EAA8-4C43-A631-B48E0626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CFC-5403-4118-B88B-24217A5F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4ED-5764-4622-9161-FAF0E1AB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611-E52F-4549-9673-DBBF92E3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3AA-16A4-4CF7-85FE-A1121136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3831-0079-43CE-8F2A-965877D09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ysha T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ysha Turan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ysha Tura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ysha Tur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505320"/>
            <a:ext cx="2133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e llamo Aysha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Yo vivo en Astoria. Yo tengo años catorce. Yo tengo dos hermanos y también uno hermana. Yo estoy calmado y 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4038480"/>
            <a:ext cx="54864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 esta bien pero podemos comer arroz y habichuela ahora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4100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la cuidad contigo.                                                                        Ay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438280"/>
            <a:ext cx="5486400" cy="7621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ías Aysha </a:t>
            </a:r>
            <a:r>
              <a:rPr b="0" lang="en-US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yo estoy muy energica. ¿ tu quiére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ir a la cuidad?                                              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onde vamos comer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Dónde están mis amig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43:53Z</dcterms:created>
  <dc:creator>FriscoISD</dc:creator>
  <dc:description/>
  <dc:language>en-US</dc:language>
  <cp:lastModifiedBy>User</cp:lastModifiedBy>
  <dcterms:modified xsi:type="dcterms:W3CDTF">2012-12-04T14:58:26Z</dcterms:modified>
  <cp:revision>104</cp:revision>
  <dc:subject/>
  <dc:title>Profile</dc:title>
</cp:coreProperties>
</file>